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34.jpeg" ContentType="image/jpeg"/>
  <Override PartName="/ppt/media/image28.jpeg" ContentType="image/jpeg"/>
  <Override PartName="/ppt/media/image12.jpeg" ContentType="image/jpeg"/>
  <Override PartName="/ppt/media/image31.jpeg" ContentType="image/jpeg"/>
  <Override PartName="/ppt/media/image4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35.jpeg" ContentType="image/jpeg"/>
  <Override PartName="/ppt/media/image10.jpeg" ContentType="image/jpeg"/>
  <Override PartName="/ppt/media/image33.wmf" ContentType="image/x-wmf"/>
  <Override PartName="/ppt/media/image29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36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43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9.wmf" ContentType="image/x-wmf"/>
  <Override PartName="/ppt/media/image26.jpeg" ContentType="image/jpeg"/>
  <Override PartName="/ppt/media/image4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44751-F7D3-43B6-85FD-95B3FBB321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52280" y="4166640"/>
            <a:ext cx="8763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7E065-D367-46D1-9D4A-ABC718368E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228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4256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46466-BA75-4888-9783-FB376C5ABB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15080" y="205740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77880" y="205740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52280" y="416664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15080" y="416664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77880" y="416664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41FD8-259A-4CA6-B150-3AD0D1F557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46ACE-D735-4002-A0B3-F054EE0EF3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50E0C-685F-4A4A-A768-666CD3C2BA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7C58F-F4A2-43F8-BF85-DF3B664D15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2AC87-C199-4058-9453-9D5B31471C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8080" y="151920"/>
            <a:ext cx="3657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FB2B6-B48E-4001-BD23-A729D2BB62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28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B1256-8373-4A86-99B2-23F9513B68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4256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32AC2-D432-4C54-B29A-6D5A1EBE08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4166640"/>
            <a:ext cx="8763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A433D-091A-4011-B9C6-F895C701D8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1"/>
          <p:cNvSpPr/>
          <p:nvPr/>
        </p:nvSpPr>
        <p:spPr>
          <a:xfrm>
            <a:off x="0" y="0"/>
            <a:ext cx="1371600" cy="1676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83" descr="other logo for powerpoint"/>
          <p:cNvPicPr/>
          <p:nvPr/>
        </p:nvPicPr>
        <p:blipFill>
          <a:blip r:embed="rId2"/>
          <a:stretch/>
        </p:blipFill>
        <p:spPr>
          <a:xfrm>
            <a:off x="1219320" y="2819520"/>
            <a:ext cx="2120760" cy="289548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6"/>
          <p:cNvSpPr/>
          <p:nvPr/>
        </p:nvSpPr>
        <p:spPr>
          <a:xfrm>
            <a:off x="1371600" y="0"/>
            <a:ext cx="4114800" cy="167652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228240" y="61718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A16D-E90A-4F2B-9FDE-631C95D33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Rectangle 13"/>
          <p:cNvSpPr/>
          <p:nvPr/>
        </p:nvSpPr>
        <p:spPr>
          <a:xfrm>
            <a:off x="1371600" y="1600200"/>
            <a:ext cx="4114800" cy="304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Rectangle 93"/>
          <p:cNvSpPr/>
          <p:nvPr/>
        </p:nvSpPr>
        <p:spPr>
          <a:xfrm>
            <a:off x="0" y="1600200"/>
            <a:ext cx="137160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94" descr="oxford logo4"/>
          <p:cNvPicPr/>
          <p:nvPr/>
        </p:nvPicPr>
        <p:blipFill>
          <a:blip r:embed="rId3"/>
          <a:stretch/>
        </p:blipFill>
        <p:spPr>
          <a:xfrm>
            <a:off x="103320" y="152280"/>
            <a:ext cx="506160" cy="1295640"/>
          </a:xfrm>
          <a:prstGeom prst="rect">
            <a:avLst/>
          </a:prstGeom>
          <a:ln w="0">
            <a:noFill/>
          </a:ln>
        </p:spPr>
      </p:pic>
      <p:pic>
        <p:nvPicPr>
          <p:cNvPr id="9" name="Picture 95" descr="book cover2"/>
          <p:cNvPicPr/>
          <p:nvPr/>
        </p:nvPicPr>
        <p:blipFill>
          <a:blip r:embed="rId4"/>
          <a:stretch/>
        </p:blipFill>
        <p:spPr>
          <a:xfrm>
            <a:off x="914400" y="2286000"/>
            <a:ext cx="2797200" cy="369396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96"/>
          <p:cNvSpPr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Calibri"/>
              </a:rPr>
              <a:t>Chapter #13: </a:t>
            </a:r>
            <a:r>
              <a:rPr b="0" lang="en-US" sz="5400" spc="-1" strike="noStrike">
                <a:solidFill>
                  <a:srgbClr val="3333ff"/>
                </a:solidFill>
                <a:latin typeface="Calibri"/>
              </a:rPr>
              <a:t>CMOS Digital Logic Circuits</a:t>
            </a:r>
            <a:endParaRPr b="1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38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icroelectronic Circui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Sedra and Smi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xford Publi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Noise Margin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ensitivity of inverter output to exact value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dvantageous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(sensitivity is low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Object 4"/>
          <p:cNvGraphicFramePr/>
          <p:nvPr/>
        </p:nvGraphicFramePr>
        <p:xfrm>
          <a:off x="798480" y="3962520"/>
          <a:ext cx="74311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480" y="3962520"/>
                    <a:ext cx="74311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Noise Margin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our parameters 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OH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OL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IH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IL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e the VTC of an inver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well as determine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noise margi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rter is good a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rejecting noi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ka.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restoring signal leve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the desirable VOL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mal definitions are provided i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igure 13.5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se13F04"/>
          <p:cNvPicPr/>
          <p:nvPr/>
        </p:nvPicPr>
        <p:blipFill>
          <a:blip r:embed="rId1"/>
          <a:stretch/>
        </p:blipFill>
        <p:spPr>
          <a:xfrm>
            <a:off x="838080" y="2805120"/>
            <a:ext cx="7467840" cy="2376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13"/>
          <p:cNvPicPr/>
          <p:nvPr/>
        </p:nvPicPr>
        <p:blipFill>
          <a:blip r:embed="rId2"/>
          <a:stretch/>
        </p:blipFill>
        <p:spPr>
          <a:xfrm>
            <a:off x="228600" y="6100920"/>
            <a:ext cx="8610480" cy="56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se13F05"/>
          <p:cNvPicPr/>
          <p:nvPr/>
        </p:nvPicPr>
        <p:blipFill>
          <a:blip r:embed="rId1"/>
          <a:stretch/>
        </p:blipFill>
        <p:spPr>
          <a:xfrm>
            <a:off x="1295280" y="228600"/>
            <a:ext cx="6553440" cy="53290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304920" y="586728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3.5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ypical voltage transfer characteristic (VTC) of a logic inverter, illustrating the definition of the critical points.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.1.4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Ideal VTC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ideal VTC is one tha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axim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Range of Outp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Noise Marg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obtain maximum output sw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OH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DD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OL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obtain maximum noise margins,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ransition region should be as narro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s poss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are equalized to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“transition” at midpoi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power supply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2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.1.5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verter Implementa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rters using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ransisto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Chapters 5 and 6) operate as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voltage-controlled switch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low, switch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p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high, switch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lo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istors, however, ar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not perfe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off resista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x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on resistanc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or transistor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 (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4" descr="se13F06"/>
          <p:cNvPicPr/>
          <p:nvPr/>
        </p:nvPicPr>
        <p:blipFill>
          <a:blip r:embed="rId1"/>
          <a:stretch/>
        </p:blipFill>
        <p:spPr>
          <a:xfrm>
            <a:off x="1143000" y="304920"/>
            <a:ext cx="6781680" cy="53816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2209680" y="61563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3.6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VTC of an ideal inverter.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4" descr="se13F07"/>
          <p:cNvPicPr/>
          <p:nvPr/>
        </p:nvPicPr>
        <p:blipFill>
          <a:blip r:embed="rId1"/>
          <a:stretch/>
        </p:blipFill>
        <p:spPr>
          <a:xfrm>
            <a:off x="304920" y="574560"/>
            <a:ext cx="8458200" cy="4988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13"/>
          <p:cNvPicPr/>
          <p:nvPr/>
        </p:nvPicPr>
        <p:blipFill>
          <a:blip r:embed="rId2"/>
          <a:stretch/>
        </p:blipFill>
        <p:spPr>
          <a:xfrm>
            <a:off x="152280" y="6248520"/>
            <a:ext cx="8763120" cy="43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.1.5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verter Implementa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elaborate implementations of logic inverter exis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complementary pull-up switc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PU) – whe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low,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U is clo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complementary pull-down switc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PD) whe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low,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D is op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4" descr="se13F08"/>
          <p:cNvPicPr/>
          <p:nvPr/>
        </p:nvPicPr>
        <p:blipFill>
          <a:blip r:embed="rId1"/>
          <a:stretch/>
        </p:blipFill>
        <p:spPr>
          <a:xfrm>
            <a:off x="4876920" y="4189320"/>
            <a:ext cx="3962160" cy="24717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228600" y="4784760"/>
            <a:ext cx="4419720" cy="192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ure 13.8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ore elaborate implementation of the logic inverter utilizing two complementary switches. This is the basis of the CMOS inverter that we shall study in Section 13.2.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4" descr="se13F08"/>
          <p:cNvPicPr/>
          <p:nvPr/>
        </p:nvPicPr>
        <p:blipFill>
          <a:blip r:embed="rId1"/>
          <a:stretch/>
        </p:blipFill>
        <p:spPr>
          <a:xfrm>
            <a:off x="609480" y="514440"/>
            <a:ext cx="7848720" cy="48956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304920" y="556272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3.8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more elaborate implementation of the logic inverter utilizing two complementary switches. This is the basis of the CMOS inverter that we shall study in Section 13.2.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THIS CHAPTER YOU WILL LEA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the operation of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basic element in digital circuits, the logic invert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is characterized by such parameters as noise margins, propagation delay, and power dissipaption, and how it is implemented by using one of the three possible arangements of voltage-controlled swicthes (transistor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at the three most significant metrics in digital IC design ar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peed, power dissipation, and are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4" descr="se13F09"/>
          <p:cNvPicPr/>
          <p:nvPr/>
        </p:nvPicPr>
        <p:blipFill>
          <a:blip r:embed="rId1"/>
          <a:stretch/>
        </p:blipFill>
        <p:spPr>
          <a:xfrm>
            <a:off x="2246400" y="228600"/>
            <a:ext cx="4611600" cy="5715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13"/>
          <p:cNvPicPr/>
          <p:nvPr/>
        </p:nvPicPr>
        <p:blipFill>
          <a:blip r:embed="rId2"/>
          <a:stretch/>
        </p:blipFill>
        <p:spPr>
          <a:xfrm>
            <a:off x="228600" y="6195960"/>
            <a:ext cx="8610480" cy="41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.1.6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Power Dissipa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gital circuits us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arge number of logic gat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such, power / heat dissipation is concer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very-large-scale integr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VLSI) – describes methods to design and implemen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very compa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tegrated chip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tha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ne million gat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er chi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static power dissip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power lost when switch is open / closed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(not moving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dynamic power dissip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power lost when switch is opening / closing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(moving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.1.6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Power Dissipa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" name="Object 4"/>
          <p:cNvGraphicFramePr/>
          <p:nvPr/>
        </p:nvGraphicFramePr>
        <p:xfrm>
          <a:off x="1676520" y="2057400"/>
          <a:ext cx="5740200" cy="41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057400"/>
                    <a:ext cx="574020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4" descr="se13F12"/>
          <p:cNvPicPr/>
          <p:nvPr/>
        </p:nvPicPr>
        <p:blipFill>
          <a:blip r:embed="rId1"/>
          <a:stretch/>
        </p:blipFill>
        <p:spPr>
          <a:xfrm>
            <a:off x="1523880" y="304920"/>
            <a:ext cx="6172200" cy="5540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13"/>
          <p:cNvPicPr/>
          <p:nvPr/>
        </p:nvPicPr>
        <p:blipFill>
          <a:blip r:embed="rId2"/>
          <a:stretch/>
        </p:blipFill>
        <p:spPr>
          <a:xfrm>
            <a:off x="228600" y="6180120"/>
            <a:ext cx="8610480" cy="479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.1.6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Power Dissipa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ation (13.35) indicates that to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inimize dynamic power dissip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apacita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hould be minim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shortens length of transi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D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hould be minim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is why modern devices use 5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upplies, as opposed to 12 or 15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though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reduction of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possible, it goes against the need for increased speed in digital technolog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.1.7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Propagation Delay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important issue, especially in digital computers,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aximum spe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t which a device is capable of operat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propagation dela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is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ime differe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etween an change in input and reaction at outp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ly, this value is characterized employing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“pulse” inp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4" descr="se13F13"/>
          <p:cNvPicPr/>
          <p:nvPr/>
        </p:nvPicPr>
        <p:blipFill>
          <a:blip r:embed="rId1"/>
          <a:stretch/>
        </p:blipFill>
        <p:spPr>
          <a:xfrm>
            <a:off x="2225520" y="228600"/>
            <a:ext cx="4861080" cy="54864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228600" y="586728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3.13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inverter fed with the ideal pulse in 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provides at its output the pulse in 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. Two delay times are defined as indicated.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.1.7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Propagation Delay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13.3. yield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everal observa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Output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no longer ide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ul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hape of the output differs from input.  The process is no longer line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There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ime delay between edg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input pulse and corresponding change in outp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witching time is defined as the time at which output passes threshold for switching (generally ½ maximum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Inverter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ropagation delay is defin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y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(eq13.36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½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PL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PH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.1.7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Propagation Delay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additional follow-up points may be ma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undamental relationshi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analyzing the dynamic operation of a circuit is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(eq13.39)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thorough familiarity with time response of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ingle-time-constant (STC) circui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essential to analysis of such dynamic circu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review is presented in Appendix E of tex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xample 13.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monstrates this lin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228600" y="586728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3.15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initions of propagation delays and transition times of the logic inverter.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4" descr="se13F15"/>
          <p:cNvPicPr/>
          <p:nvPr/>
        </p:nvPicPr>
        <p:blipFill>
          <a:blip r:embed="rId1"/>
          <a:stretch/>
        </p:blipFill>
        <p:spPr>
          <a:xfrm>
            <a:off x="657360" y="336600"/>
            <a:ext cx="7724520" cy="5226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THIS CHAPTER YOU WILL LEA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and why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MOS has become the domina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echnology for digital IC desig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tructure, circuit operation, static and dynamic performance analysis, and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esign of the CMOS inver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ynthesis and desig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ptimization of CMO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ogic circu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mplications of technology scaling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(Moore’s Law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.1.10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Digital IC Technologies and Logic-Circuit Families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4" descr="se13F16"/>
          <p:cNvPicPr/>
          <p:nvPr/>
        </p:nvPicPr>
        <p:blipFill>
          <a:blip r:embed="rId1"/>
          <a:stretch/>
        </p:blipFill>
        <p:spPr>
          <a:xfrm>
            <a:off x="228600" y="2286000"/>
            <a:ext cx="8610480" cy="29034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5"/>
          <p:cNvSpPr/>
          <p:nvPr/>
        </p:nvSpPr>
        <p:spPr>
          <a:xfrm>
            <a:off x="228600" y="54864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3.16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gital IC technologies and logic-circuit families.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.1.10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Digital IC Technologies and Logic-Circuit Families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sons for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MOS displacing bipolar technolog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digital applica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MOS logic circuits dissipat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ess pow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 transistors offer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igher input imped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ize of MOS transisto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as been reduced drastically in recent past, more so than bipolar technolog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CMOS Invert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4419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MOS logic inverter is shown in Figure 13.17, consists of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-channel device 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Q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-channel device 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Q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is employ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manipulate outp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gic 0 /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4" descr="se13F17"/>
          <p:cNvPicPr/>
          <p:nvPr/>
        </p:nvPicPr>
        <p:blipFill>
          <a:blip r:embed="rId1"/>
          <a:stretch/>
        </p:blipFill>
        <p:spPr>
          <a:xfrm>
            <a:off x="4800600" y="1219320"/>
            <a:ext cx="4083120" cy="52578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5"/>
          <p:cNvSpPr/>
          <p:nvPr/>
        </p:nvSpPr>
        <p:spPr>
          <a:xfrm>
            <a:off x="4952880" y="4572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3.17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MOS inverter.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4" descr="se13F18"/>
          <p:cNvPicPr/>
          <p:nvPr/>
        </p:nvPicPr>
        <p:blipFill>
          <a:blip r:embed="rId1"/>
          <a:stretch/>
        </p:blipFill>
        <p:spPr>
          <a:xfrm>
            <a:off x="696960" y="152280"/>
            <a:ext cx="7761240" cy="2465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13"/>
          <p:cNvPicPr/>
          <p:nvPr/>
        </p:nvPicPr>
        <p:blipFill>
          <a:blip r:embed="rId2"/>
          <a:stretch/>
        </p:blipFill>
        <p:spPr>
          <a:xfrm>
            <a:off x="304920" y="2819520"/>
            <a:ext cx="8534160" cy="4204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se13F19"/>
          <p:cNvPicPr/>
          <p:nvPr/>
        </p:nvPicPr>
        <p:blipFill>
          <a:blip r:embed="rId3"/>
          <a:stretch/>
        </p:blipFill>
        <p:spPr>
          <a:xfrm>
            <a:off x="666720" y="3505320"/>
            <a:ext cx="7791480" cy="26334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13"/>
          <p:cNvPicPr/>
          <p:nvPr/>
        </p:nvPicPr>
        <p:blipFill>
          <a:blip r:embed="rId4"/>
          <a:stretch/>
        </p:blipFill>
        <p:spPr>
          <a:xfrm>
            <a:off x="390600" y="6275520"/>
            <a:ext cx="8372520" cy="43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.1.6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Power Dissipa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9" name="Object 3"/>
          <p:cNvGraphicFramePr/>
          <p:nvPr/>
        </p:nvGraphicFramePr>
        <p:xfrm>
          <a:off x="304920" y="1008000"/>
          <a:ext cx="8547120" cy="50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08000"/>
                    <a:ext cx="854712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4" descr="se13F20"/>
          <p:cNvPicPr/>
          <p:nvPr/>
        </p:nvPicPr>
        <p:blipFill>
          <a:blip r:embed="rId1"/>
          <a:stretch/>
        </p:blipFill>
        <p:spPr>
          <a:xfrm>
            <a:off x="1800360" y="228600"/>
            <a:ext cx="5591160" cy="56386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5"/>
          <p:cNvSpPr/>
          <p:nvPr/>
        </p:nvSpPr>
        <p:spPr>
          <a:xfrm>
            <a:off x="228600" y="594360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3.20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voltage-transfer characteristic of the CMOS inverter when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i="1" lang="en-US" sz="2000" spc="-1" strike="noStrike" baseline="-2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i="1" lang="en-US" sz="2000" spc="-1" strike="noStrike" baseline="-20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re matched.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4" descr="se13F22"/>
          <p:cNvPicPr/>
          <p:nvPr/>
        </p:nvPicPr>
        <p:blipFill>
          <a:blip r:embed="rId1"/>
          <a:stretch/>
        </p:blipFill>
        <p:spPr>
          <a:xfrm>
            <a:off x="304920" y="228600"/>
            <a:ext cx="6629400" cy="635652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5"/>
          <p:cNvSpPr/>
          <p:nvPr/>
        </p:nvSpPr>
        <p:spPr>
          <a:xfrm rot="5400000">
            <a:off x="4868280" y="2643120"/>
            <a:ext cx="632448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3.22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ynamic operation of a capacitively loaded CMOS inverter: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a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ircuit;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b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put and output waveforms;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c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quivalent circuit during the capacitor discharge;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d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rajectory of the operating point as the input goes high an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discharges through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i="1" lang="en-US" sz="2000" spc="-1" strike="noStrike" baseline="-2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.1.6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Power Dissipa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6" name="Object 4"/>
          <p:cNvGraphicFramePr/>
          <p:nvPr/>
        </p:nvGraphicFramePr>
        <p:xfrm>
          <a:off x="1295280" y="606600"/>
          <a:ext cx="6535800" cy="57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606600"/>
                    <a:ext cx="6535800" cy="57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.3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Dynamic Operation of the CMOS Inverter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does on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nalyze the switching oper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CMOS invert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tep #1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place all capacitances in circuit (the various capacitances associated with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by a single equivalent capacitance 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tep #2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alyze the resulting capacitively loaded inverter to determine it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PL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PH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.3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Determining Propagation Delay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13.22(a) shows 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MOS inverter with a capacitance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nnected between its input node and grou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determine propagation delays, apply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n ideal pul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circuit is symmetric, both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ropagation delays may be analyzed togeth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Digital Logic Inverter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basic ele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design of digital circu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ys a role parallel to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mplifi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analog circu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.1.1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Function of the Inver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t 0 to 1, 1 to 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.1.2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Voltage Transfer Characteristics (VT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cribed in Figure 13.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.3.3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Dynamic Operation of the CMOS Inverter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ations (13.64) through (13.68) in textbook yield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everal observa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components of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can be equaliz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y selecting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atios to equaliz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c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proportional to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esigner should strive to reduce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ing a process technology with larger transconductance parameter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k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’ can result in shorter propagation delay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.3.3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Dynamic Operation of the CMOS Inverter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ations (13.64) through (13.68) in textbook yield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everal observa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ing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arger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W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ratio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 result in reduction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arger supply voltage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D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sults in lowe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observations demonstrate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“trade-offs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ssociated with design of digital logic gat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228600" y="59436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3.23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quivalent circuits for determining the propagation delays 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PH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PL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the inverter.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4" descr="se13F23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34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.4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CMOS Logic-Gate Circuit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MOS logic gate is extension of inver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MO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ull-dow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ransistor /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MO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ull-u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ransistor /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two networks are operated by input variables in a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omplementary fash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228600" y="59436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3.27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presentation of a three-input CMOS logic gate. The PUN comprises PMOS transistors, and the PDN comprises NMOS transistors.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4" descr="se13F27"/>
          <p:cNvPicPr/>
          <p:nvPr/>
        </p:nvPicPr>
        <p:blipFill>
          <a:blip r:embed="rId1"/>
          <a:stretch/>
        </p:blipFill>
        <p:spPr>
          <a:xfrm>
            <a:off x="2468520" y="228600"/>
            <a:ext cx="3703680" cy="556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228600" y="5943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3.28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amples of pull-down networks.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4" descr="se13F28"/>
          <p:cNvPicPr/>
          <p:nvPr/>
        </p:nvPicPr>
        <p:blipFill>
          <a:blip r:embed="rId1"/>
          <a:stretch/>
        </p:blipFill>
        <p:spPr>
          <a:xfrm>
            <a:off x="609480" y="1727280"/>
            <a:ext cx="7797960" cy="3378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228600" y="5943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3.29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amples of pull-up networks.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Picture 4" descr="se13F29"/>
          <p:cNvPicPr/>
          <p:nvPr/>
        </p:nvPicPr>
        <p:blipFill>
          <a:blip r:embed="rId1"/>
          <a:stretch/>
        </p:blipFill>
        <p:spPr>
          <a:xfrm>
            <a:off x="679320" y="1828800"/>
            <a:ext cx="7785360" cy="3187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Picture 4" descr="se13F30"/>
          <p:cNvPicPr/>
          <p:nvPr/>
        </p:nvPicPr>
        <p:blipFill>
          <a:blip r:embed="rId1"/>
          <a:stretch/>
        </p:blipFill>
        <p:spPr>
          <a:xfrm>
            <a:off x="671400" y="1403280"/>
            <a:ext cx="7802640" cy="405144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5"/>
          <p:cNvSpPr/>
          <p:nvPr/>
        </p:nvSpPr>
        <p:spPr>
          <a:xfrm>
            <a:off x="304920" y="615636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3.30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ual and alternative circuit symbols for MOSFETs.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.4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CMOS Logic Gate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.4.2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Two-Input NOR G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.4.3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Two-Input NAND G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.4.4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 Complex G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.4.6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Exclusive-OR Fun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Line 4"/>
          <p:cNvSpPr/>
          <p:nvPr/>
        </p:nvSpPr>
        <p:spPr>
          <a:xfrm>
            <a:off x="1523880" y="2590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Line 6"/>
          <p:cNvSpPr/>
          <p:nvPr/>
        </p:nvSpPr>
        <p:spPr>
          <a:xfrm>
            <a:off x="2514600" y="25909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Line 7"/>
          <p:cNvSpPr/>
          <p:nvPr/>
        </p:nvSpPr>
        <p:spPr>
          <a:xfrm>
            <a:off x="2819520" y="25909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Line 8"/>
          <p:cNvSpPr/>
          <p:nvPr/>
        </p:nvSpPr>
        <p:spPr>
          <a:xfrm>
            <a:off x="1523880" y="3581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Line 9"/>
          <p:cNvSpPr/>
          <p:nvPr/>
        </p:nvSpPr>
        <p:spPr>
          <a:xfrm>
            <a:off x="2209680" y="3581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Line 10"/>
          <p:cNvSpPr/>
          <p:nvPr/>
        </p:nvSpPr>
        <p:spPr>
          <a:xfrm>
            <a:off x="2743200" y="3581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Line 11"/>
          <p:cNvSpPr/>
          <p:nvPr/>
        </p:nvSpPr>
        <p:spPr>
          <a:xfrm>
            <a:off x="1523880" y="464832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Line 12"/>
          <p:cNvSpPr/>
          <p:nvPr/>
        </p:nvSpPr>
        <p:spPr>
          <a:xfrm>
            <a:off x="3200400" y="4648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Line 13"/>
          <p:cNvSpPr/>
          <p:nvPr/>
        </p:nvSpPr>
        <p:spPr>
          <a:xfrm>
            <a:off x="3733920" y="4648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Line 14"/>
          <p:cNvSpPr/>
          <p:nvPr/>
        </p:nvSpPr>
        <p:spPr>
          <a:xfrm>
            <a:off x="4038480" y="4648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Line 15"/>
          <p:cNvSpPr/>
          <p:nvPr/>
        </p:nvSpPr>
        <p:spPr>
          <a:xfrm>
            <a:off x="4572000" y="4648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1676520" y="57150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2286000" y="57150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4" descr="se13F31"/>
          <p:cNvPicPr/>
          <p:nvPr/>
        </p:nvPicPr>
        <p:blipFill>
          <a:blip r:embed="rId1"/>
          <a:stretch/>
        </p:blipFill>
        <p:spPr>
          <a:xfrm>
            <a:off x="152280" y="1592280"/>
            <a:ext cx="2551320" cy="36655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se13F32"/>
          <p:cNvPicPr/>
          <p:nvPr/>
        </p:nvPicPr>
        <p:blipFill>
          <a:blip r:embed="rId2"/>
          <a:stretch/>
        </p:blipFill>
        <p:spPr>
          <a:xfrm>
            <a:off x="3198960" y="1590840"/>
            <a:ext cx="2668320" cy="36669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se13F33"/>
          <p:cNvPicPr/>
          <p:nvPr/>
        </p:nvPicPr>
        <p:blipFill>
          <a:blip r:embed="rId3"/>
          <a:stretch/>
        </p:blipFill>
        <p:spPr>
          <a:xfrm>
            <a:off x="6173640" y="1465200"/>
            <a:ext cx="2741760" cy="4021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.1.2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Voltage-Transfer Charactristic (VTC)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13.2. demonstrate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utilization of transistor as logic inver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ogic = 1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ogic = 0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utilize transistor-based amplifier as an inverter,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xtreme regions of oper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employ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iL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is maximu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valu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 have while being interpreted as logic 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iH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is minimu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valu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 have while being interpreted as logic 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important performance parameter of the inverter is the amount of power it dissipates.  There are two components of power dissipation: static and dynamic.  The first is the result of current flow in either the 0 or 1 state (or both).  The second occurs when the inverter is switched and has a capacitor loa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 Dynamic power dissipatio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y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C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peed of operation of the inverter is characterized by its propagation delay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igital logic inverter is the basic building block of digital circuits, just as the amplifier is the basic building block of analog circu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tatic operation of the inverter is described by its voltage-transfer characteristic (VTC).  The VTC determines the inverter noise margins.  In particular, note tha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nverter is implemented using transistors operating as voltage-controlled switch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metric that combines speed of operation and power dissipation is the power delay product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D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  The lowr the PDP, the more effective the logic-circuit family 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sides speed of operation and power dissipation, the silicon area required for an inverter is the third significant metric in digital IC desig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dominantly because of its lower power dissipation and good scalability, CMOS is by far the more dominant transistor technology for utilization in logic gate desig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gital IC’s usually utilize the minimum channel length of technology availa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minimum area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selected equal to 1.  However, to reduc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specially when a major part of C is extrinsic to the inverter. 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correspondingly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 be increa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2" name="Picture 7" descr=""/>
          <p:cNvPicPr/>
          <p:nvPr/>
        </p:nvPicPr>
        <p:blipFill>
          <a:blip r:embed="rId1"/>
          <a:stretch/>
        </p:blipFill>
        <p:spPr>
          <a:xfrm>
            <a:off x="237960" y="1290600"/>
            <a:ext cx="8668080" cy="4276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6" descr=""/>
          <p:cNvPicPr/>
          <p:nvPr/>
        </p:nvPicPr>
        <p:blipFill>
          <a:blip r:embed="rId1"/>
          <a:stretch/>
        </p:blipFill>
        <p:spPr>
          <a:xfrm>
            <a:off x="257040" y="1557360"/>
            <a:ext cx="8629920" cy="374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6" descr=""/>
          <p:cNvPicPr/>
          <p:nvPr/>
        </p:nvPicPr>
        <p:blipFill>
          <a:blip r:embed="rId1"/>
          <a:stretch/>
        </p:blipFill>
        <p:spPr>
          <a:xfrm>
            <a:off x="237960" y="1871640"/>
            <a:ext cx="8668080" cy="311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se13F01"/>
          <p:cNvPicPr/>
          <p:nvPr/>
        </p:nvPicPr>
        <p:blipFill>
          <a:blip r:embed="rId1"/>
          <a:stretch/>
        </p:blipFill>
        <p:spPr>
          <a:xfrm>
            <a:off x="1447920" y="1066680"/>
            <a:ext cx="6324480" cy="41166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304920" y="6172200"/>
            <a:ext cx="8534160" cy="4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3.1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logic inverter operating from a dc supply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000" spc="-1" strike="noStrike" baseline="-20000">
                <a:solidFill>
                  <a:srgbClr val="000000"/>
                </a:solidFill>
                <a:latin typeface="Calibri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se13F02"/>
          <p:cNvPicPr/>
          <p:nvPr/>
        </p:nvPicPr>
        <p:blipFill>
          <a:blip r:embed="rId1"/>
          <a:stretch/>
        </p:blipFill>
        <p:spPr>
          <a:xfrm>
            <a:off x="228600" y="814320"/>
            <a:ext cx="8610480" cy="5205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13"/>
          <p:cNvPicPr/>
          <p:nvPr/>
        </p:nvPicPr>
        <p:blipFill>
          <a:blip r:embed="rId2"/>
          <a:stretch/>
        </p:blipFill>
        <p:spPr>
          <a:xfrm>
            <a:off x="228600" y="6259680"/>
            <a:ext cx="8610480" cy="426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se13F03"/>
          <p:cNvPicPr/>
          <p:nvPr/>
        </p:nvPicPr>
        <p:blipFill>
          <a:blip r:embed="rId1"/>
          <a:stretch/>
        </p:blipFill>
        <p:spPr>
          <a:xfrm>
            <a:off x="1295280" y="281160"/>
            <a:ext cx="6553440" cy="49003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228600" y="5394240"/>
            <a:ext cx="868680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3.3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oltage transfer characteristic of an inverter. The VTC is approximated by three straight-line segments. Note the four parameters of the VTC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000" spc="-1" strike="noStrike" baseline="-20000">
                <a:solidFill>
                  <a:srgbClr val="000000"/>
                </a:solidFill>
                <a:latin typeface="Calibri"/>
              </a:rPr>
              <a:t>O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V</a:t>
            </a:r>
            <a:r>
              <a:rPr b="0" i="1" lang="en-US" sz="2000" spc="-1" strike="noStrike" baseline="-20000">
                <a:solidFill>
                  <a:srgbClr val="000000"/>
                </a:solidFill>
                <a:latin typeface="Calibri"/>
              </a:rPr>
              <a:t>O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V</a:t>
            </a:r>
            <a:r>
              <a:rPr b="0" i="1" lang="en-US" sz="2000" spc="-1" strike="noStrike" baseline="-20000">
                <a:solidFill>
                  <a:srgbClr val="000000"/>
                </a:solidFill>
                <a:latin typeface="Calibri"/>
              </a:rPr>
              <a:t>I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V</a:t>
            </a:r>
            <a:r>
              <a:rPr b="0" i="1" lang="en-US" sz="2000" spc="-1" strike="noStrike" baseline="-20000">
                <a:solidFill>
                  <a:srgbClr val="000000"/>
                </a:solidFill>
                <a:latin typeface="Calibri"/>
              </a:rPr>
              <a:t>I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and their use in determining the noise margins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M</a:t>
            </a:r>
            <a:r>
              <a:rPr b="0" i="1" lang="en-US" sz="2000" spc="-1" strike="noStrike" baseline="-20000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M</a:t>
            </a:r>
            <a:r>
              <a:rPr b="0" i="1" lang="en-US" sz="2000" spc="-1" strike="noStrike" baseline="-20000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Noise Margin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 rot="21540000">
            <a:off x="151920" y="2971800"/>
            <a:ext cx="8915400" cy="2536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02:06:37Z</dcterms:created>
  <dc:creator>deese</dc:creator>
  <dc:description/>
  <dc:language>en-US</dc:language>
  <cp:lastModifiedBy>Jeffrey N. Denenberg</cp:lastModifiedBy>
  <dcterms:modified xsi:type="dcterms:W3CDTF">2013-04-23T16:08:04Z</dcterms:modified>
  <cp:revision>411</cp:revision>
  <dc:subject/>
  <dc:title>Slide 1</dc:title>
</cp:coreProperties>
</file>